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0EC-22A4-4F4D-9974-211A275A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094-79B4-43EC-8E22-8085625D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680-8537-4073-B8FD-87558712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DDA-985C-42AA-A8B8-E07BAA7E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35AD-AFC0-4040-ACF6-8235011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1DC-D632-48A0-BC7C-D7F8DB0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C8A-6D1A-41A5-9464-26A7916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E13-5B0D-4AC7-B70D-3016DB2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4FAE-3DD5-4C28-87E8-F32EB8B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1F91-38E6-47B7-9DCB-A7DA8FD6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09E9-2A72-4DA0-9198-4FCA814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510-855C-4F13-A456-8C3775C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0103-6C6F-4FE8-A24C-E13733A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8D8-626F-4D47-9D1A-E1F1603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D3D-BB92-4621-9120-2373C333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7666-E469-4B98-9A71-E4BCBE34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070-A82E-4DB3-A62F-39ACBA12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3385-FD63-4B5F-95F2-0C9C5BB0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F4C3-E3F4-4A83-A20A-89CB60E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BAD7-5E35-49A7-82FA-D53C29C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3EA4-C921-427C-AAA2-4A191EB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CE85-EC42-4E09-8235-5C880DD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DA7-984E-425A-BE7D-40DC0A85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6307-E082-4334-84BC-3A24A1F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B32D-10E3-465E-B566-C9F71AD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1EEA-E27A-4C28-A501-69B5323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D32A-2A2B-44CD-A063-B092321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C1A6-25C8-436E-934C-FEA5B276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D2BD-7BE9-469A-BF2A-4774341D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9BD4-96D1-427F-BBBE-CA711BBA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EF2C-0948-409B-9E61-32DB6A55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7C96-B3F0-4F81-851D-C99547DD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1AC4-6F68-4A1B-A202-5050033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925-6708-4EA1-8409-E2CFBC3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F362-5F9C-4B86-9343-8E8DBFB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FC86-8656-475D-A17E-34504F48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4514-23A2-4D4B-AF6C-92BA1C5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50E9-3268-417A-9328-699951F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DBFF-1FC6-4876-AB3A-A4F7F5E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FA54-DF4C-4BA4-9568-4668DA2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4DF6-C18E-4512-AAE7-B28806B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A7A92-EE8B-47AE-9CCF-0A787E5D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90F0-492F-4809-9F12-2652AA2B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10F-8F3F-46FA-80C5-E13E7847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47C-25D2-4CAD-A4A5-F403942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FC1-A999-46DD-96CE-116DC65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5E1-8DE0-43AC-AB96-DA846E7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15F-7D0A-49DE-BA3A-C9B8A67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E760-E24D-4CAF-B859-316D2A990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06DC-F4AC-41DB-BB2F-68F5F9D7F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42A2-6532-4AE1-B2A1-7781FFFC8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356C-01D9-443F-87BD-E040197B3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5th Grade Social Studi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udents should realize their current position in the world is a result of hundreds of years of movement of people and ideas.  As adolescent Americans, they come to realize the global community is more easily accessible than expected due to technology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istorical Contex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the United States dates back about 400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China and Vietnam both date back more than dates back more than 2,000 year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pact of War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Vietnam, the Vietnam War is referred to as the U.S. W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,000,000 Vietnamese (10% of the population) were killed or woun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fluence of Invention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pow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imilarities and Differences Among Cultur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the thousands of miles of separation, people of China, Vietnam, and America are, well…just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basic needs are the same, but some of our cultural values vary because of history an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is valued and teachers ar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sts are often treated with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, music and literature are all important in the different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face” is important in China and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of nutritional value is considere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of the same sex might hold hands in public, but not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ina, Vietnam…or Raleigh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ll view a picture each day with a caption, and they will have to decide if the picture is from far-away destinations such as China or Vietnam, or if it was taken in their city of residence -- Ralei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ill make them realize the Western influences present in Asia, as well as the Asian influences in their home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ina, Vietnam, or Ralei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beef, peanuts, jalapenos, mint, and shrimp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613480" cy="37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 Cali Noodle House in Ralei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iversity Fac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na has 1.3 b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ed States has 30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tnam has 8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ich Countries are Represented by the Students in our Roo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ents have brought customs and belief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544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urrent Even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 Olympic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of China’s economy as the U.S. economy fa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ming Vietnamese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rights and fair pay for wor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ovement of Goods, People and Idea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percentage of our shirts, shoes and book bags in this class were made in China?  Vietnam?  The United Sta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0:57Z</dcterms:created>
  <dc:creator>William Wheeler</dc:creator>
  <dc:description/>
  <dc:language>en-US</dc:language>
  <cp:lastModifiedBy> </cp:lastModifiedBy>
  <dcterms:modified xsi:type="dcterms:W3CDTF">2008-04-24T01:55:27Z</dcterms:modified>
  <cp:revision>32</cp:revision>
  <dc:subject/>
  <dc:title>5th Grade Social Studies</dc:title>
</cp:coreProperties>
</file>